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259A-1E4B-409F-8CB6-6B759A09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6967-C995-4D72-A439-A06C0FAE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6EB5-058F-4B39-9A8A-F605A789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17A4-6CE5-4828-97E6-A919ED06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BAF-315A-4878-B1CF-C6082D17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49E-449E-4C2C-BF69-3CD5485C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58B7-8B02-423E-B7E7-DC28F4D0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729-78C0-402B-AE09-5C83E872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8450-C1F9-4782-AC1C-5C09F81F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459-14BC-47AE-BFE1-F25A84A5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087-9A83-4D3B-A56E-5E03317F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C9A-CEEE-427F-83F4-2DFE3369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E2C0-FBA5-4E2C-91CB-FE2D3FBDD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44640" y="533520"/>
            <a:ext cx="417600" cy="4800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87720" y="533520"/>
            <a:ext cx="417600" cy="4800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85800"/>
            <a:ext cx="40384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3399"/>
                </a:solidFill>
                <a:latin typeface="Courier New"/>
              </a:rPr>
              <a:t>E</a:t>
            </a:r>
            <a:r>
              <a:rPr b="0" lang="en-GB" sz="5400" spc="-1" strike="noStrike">
                <a:solidFill>
                  <a:srgbClr val="333399"/>
                </a:solidFill>
                <a:latin typeface="Courier New"/>
              </a:rPr>
              <a:t>F</a:t>
            </a:r>
            <a:r>
              <a:rPr b="0" lang="en-GB" sz="5400" spc="-1" strike="noStrike">
                <a:solidFill>
                  <a:srgbClr val="ff9933"/>
                </a:solidFill>
                <a:latin typeface="Courier New"/>
              </a:rPr>
              <a:t>G</a:t>
            </a:r>
            <a:r>
              <a:rPr b="0" lang="en-GB" sz="5400" spc="-1" strike="noStrike">
                <a:solidFill>
                  <a:srgbClr val="cc3300"/>
                </a:solidFill>
                <a:latin typeface="Courier New"/>
              </a:rPr>
              <a:t>H</a:t>
            </a:r>
            <a:r>
              <a:rPr b="0" lang="en-GB" sz="5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GB" sz="5400" spc="-1" strike="noStrike">
                <a:solidFill>
                  <a:srgbClr val="0099ff"/>
                </a:solidFill>
                <a:latin typeface="Courier New"/>
              </a:rPr>
              <a:t>V</a:t>
            </a:r>
            <a:r>
              <a:rPr b="0" lang="en-GB" sz="5400" spc="-1" strike="noStrike">
                <a:solidFill>
                  <a:srgbClr val="333399"/>
                </a:solidFill>
                <a:latin typeface="Courier New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3399"/>
                </a:solidFill>
                <a:latin typeface="Courier New"/>
              </a:rPr>
              <a:t>E</a:t>
            </a:r>
            <a:r>
              <a:rPr b="0" lang="en-GB" sz="5400" spc="-1" strike="noStrike">
                <a:solidFill>
                  <a:srgbClr val="333399"/>
                </a:solidFill>
                <a:latin typeface="Courier New"/>
              </a:rPr>
              <a:t>Y</a:t>
            </a:r>
            <a:r>
              <a:rPr b="0" lang="en-GB" sz="5400" spc="-1" strike="noStrike">
                <a:solidFill>
                  <a:srgbClr val="ff9933"/>
                </a:solidFill>
                <a:latin typeface="Courier New"/>
              </a:rPr>
              <a:t>A</a:t>
            </a:r>
            <a:r>
              <a:rPr b="0" lang="en-GB" sz="5400" spc="-1" strike="noStrike">
                <a:solidFill>
                  <a:srgbClr val="cc3300"/>
                </a:solidFill>
                <a:latin typeface="Courier New"/>
              </a:rPr>
              <a:t>H</a:t>
            </a:r>
            <a:r>
              <a:rPr b="0" lang="en-GB" sz="5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GB" sz="5400" spc="-1" strike="noStrike">
                <a:solidFill>
                  <a:srgbClr val="0099ff"/>
                </a:solidFill>
                <a:latin typeface="Courier New"/>
              </a:rPr>
              <a:t>I</a:t>
            </a:r>
            <a:r>
              <a:rPr b="0" lang="en-GB" sz="5400" spc="-1" strike="noStrike">
                <a:solidFill>
                  <a:srgbClr val="333399"/>
                </a:solidFill>
                <a:latin typeface="Courier New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3399"/>
                </a:solidFill>
                <a:latin typeface="Courier New"/>
              </a:rPr>
              <a:t>D</a:t>
            </a:r>
            <a:r>
              <a:rPr b="0" lang="en-GB" sz="5400" spc="-1" strike="noStrike">
                <a:solidFill>
                  <a:srgbClr val="333399"/>
                </a:solidFill>
                <a:latin typeface="Courier New"/>
              </a:rPr>
              <a:t>Y</a:t>
            </a:r>
            <a:r>
              <a:rPr b="0" lang="en-GB" sz="5400" spc="-1" strike="noStrike">
                <a:solidFill>
                  <a:srgbClr val="ff9933"/>
                </a:solidFill>
                <a:latin typeface="Courier New"/>
              </a:rPr>
              <a:t>A</a:t>
            </a:r>
            <a:r>
              <a:rPr b="0" lang="en-GB" sz="5400" spc="-1" strike="noStrike">
                <a:solidFill>
                  <a:srgbClr val="cc3300"/>
                </a:solidFill>
                <a:latin typeface="Courier New"/>
              </a:rPr>
              <a:t>H</a:t>
            </a:r>
            <a:r>
              <a:rPr b="0" lang="en-GB" sz="5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GB" sz="5400" spc="-1" strike="noStrike">
                <a:solidFill>
                  <a:srgbClr val="0099ff"/>
                </a:solidFill>
                <a:latin typeface="Courier New"/>
              </a:rPr>
              <a:t>L</a:t>
            </a:r>
            <a:r>
              <a:rPr b="0" lang="en-GB" sz="5400" spc="-1" strike="noStrike">
                <a:solidFill>
                  <a:srgbClr val="333399"/>
                </a:solidFill>
                <a:latin typeface="Courier New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3399"/>
                </a:solidFill>
                <a:latin typeface="Courier New"/>
              </a:rPr>
              <a:t>E</a:t>
            </a:r>
            <a:r>
              <a:rPr b="0" lang="en-GB" sz="5400" spc="-1" strike="noStrike">
                <a:solidFill>
                  <a:srgbClr val="333399"/>
                </a:solidFill>
                <a:latin typeface="Courier New"/>
              </a:rPr>
              <a:t>F</a:t>
            </a:r>
            <a:r>
              <a:rPr b="0" lang="en-GB" sz="5400" spc="-1" strike="noStrike">
                <a:solidFill>
                  <a:srgbClr val="ff9933"/>
                </a:solidFill>
                <a:latin typeface="Courier New"/>
              </a:rPr>
              <a:t>G</a:t>
            </a:r>
            <a:r>
              <a:rPr b="0" lang="en-GB" sz="5400" spc="-1" strike="noStrike">
                <a:solidFill>
                  <a:srgbClr val="cc3300"/>
                </a:solidFill>
                <a:latin typeface="Courier New"/>
              </a:rPr>
              <a:t>H</a:t>
            </a:r>
            <a:r>
              <a:rPr b="0" lang="en-GB" sz="5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GB" sz="5400" spc="-1" strike="noStrike">
                <a:solidFill>
                  <a:srgbClr val="0099ff"/>
                </a:solidFill>
                <a:latin typeface="Courier New"/>
              </a:rPr>
              <a:t>L</a:t>
            </a:r>
            <a:r>
              <a:rPr b="0" lang="en-GB" sz="5400" spc="-1" strike="noStrike">
                <a:solidFill>
                  <a:srgbClr val="333399"/>
                </a:solidFill>
                <a:latin typeface="Courier New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259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ED]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59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FY]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29520" y="2590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7056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GA]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57840" y="259092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70680" y="2590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VIL]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59880" y="2590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38088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Lucida Handwriting"/>
              </a:rPr>
              <a:t>But – there are slightly more glutamates than aspartates in the align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41148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Lucida Handwriting"/>
              </a:rPr>
              <a:t>And could X be represented more accurately by {</a:t>
            </a:r>
            <a:r>
              <a:rPr b="0" lang="en-GB" sz="3200" spc="-1" strike="noStrike">
                <a:solidFill>
                  <a:srgbClr val="bbe0e3"/>
                </a:solidFill>
                <a:latin typeface="Courier New"/>
              </a:rPr>
              <a:t>FYW</a:t>
            </a:r>
            <a:r>
              <a:rPr b="0" lang="en-GB" sz="2400" spc="-1" strike="noStrike">
                <a:solidFill>
                  <a:srgbClr val="bbe0e3"/>
                </a:solidFill>
                <a:latin typeface="Lucida Handwriting"/>
              </a:rPr>
              <a:t>}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3049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Lucida Handwriting"/>
              </a:rPr>
              <a:t>So, let’s add some numbers to the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3520" y="1295280"/>
            <a:ext cx="4038480" cy="4824720"/>
            <a:chOff x="533520" y="1295280"/>
            <a:chExt cx="4038480" cy="4824720"/>
          </a:xfrm>
        </p:grpSpPr>
        <p:sp>
          <p:nvSpPr>
            <p:cNvPr id="56" name=""/>
            <p:cNvSpPr/>
            <p:nvPr/>
          </p:nvSpPr>
          <p:spPr>
            <a:xfrm>
              <a:off x="1844640" y="1295280"/>
              <a:ext cx="417600" cy="4800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87720" y="1295280"/>
              <a:ext cx="417600" cy="4800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1447920"/>
              <a:ext cx="4038480" cy="46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3399"/>
                  </a:solidFill>
                  <a:latin typeface="Courier New"/>
                </a:rPr>
                <a:t>E</a:t>
              </a:r>
              <a:r>
                <a:rPr b="0" lang="en-GB" sz="5400" spc="-1" strike="noStrike">
                  <a:solidFill>
                    <a:srgbClr val="333399"/>
                  </a:solidFill>
                  <a:latin typeface="Courier New"/>
                </a:rPr>
                <a:t>F</a:t>
              </a:r>
              <a:r>
                <a:rPr b="0" lang="en-GB" sz="5400" spc="-1" strike="noStrike">
                  <a:solidFill>
                    <a:srgbClr val="ff9933"/>
                  </a:solidFill>
                  <a:latin typeface="Courier New"/>
                </a:rPr>
                <a:t>G</a:t>
              </a:r>
              <a:r>
                <a:rPr b="0" lang="en-GB" sz="5400" spc="-1" strike="noStrike">
                  <a:solidFill>
                    <a:srgbClr val="cc3300"/>
                  </a:solidFill>
                  <a:latin typeface="Courier New"/>
                </a:rPr>
                <a:t>H</a:t>
              </a:r>
              <a:r>
                <a:rPr b="0" lang="en-GB" sz="5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0" lang="en-GB" sz="5400" spc="-1" strike="noStrike">
                  <a:solidFill>
                    <a:srgbClr val="0099ff"/>
                  </a:solidFill>
                  <a:latin typeface="Courier New"/>
                </a:rPr>
                <a:t>V</a:t>
              </a:r>
              <a:r>
                <a:rPr b="0" lang="en-GB" sz="5400" spc="-1" strike="noStrike">
                  <a:solidFill>
                    <a:srgbClr val="333399"/>
                  </a:solidFill>
                  <a:latin typeface="Courier New"/>
                </a:rPr>
                <a:t>W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3399"/>
                  </a:solidFill>
                  <a:latin typeface="Courier New"/>
                </a:rPr>
                <a:t>E</a:t>
              </a:r>
              <a:r>
                <a:rPr b="0" lang="en-GB" sz="5400" spc="-1" strike="noStrike">
                  <a:solidFill>
                    <a:srgbClr val="333399"/>
                  </a:solidFill>
                  <a:latin typeface="Courier New"/>
                </a:rPr>
                <a:t>Y</a:t>
              </a:r>
              <a:r>
                <a:rPr b="0" lang="en-GB" sz="5400" spc="-1" strike="noStrike">
                  <a:solidFill>
                    <a:srgbClr val="ff9933"/>
                  </a:solidFill>
                  <a:latin typeface="Courier New"/>
                </a:rPr>
                <a:t>A</a:t>
              </a:r>
              <a:r>
                <a:rPr b="0" lang="en-GB" sz="5400" spc="-1" strike="noStrike">
                  <a:solidFill>
                    <a:srgbClr val="cc3300"/>
                  </a:solidFill>
                  <a:latin typeface="Courier New"/>
                </a:rPr>
                <a:t>H</a:t>
              </a:r>
              <a:r>
                <a:rPr b="0" lang="en-GB" sz="5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GB" sz="5400" spc="-1" strike="noStrike">
                  <a:solidFill>
                    <a:srgbClr val="0099ff"/>
                  </a:solidFill>
                  <a:latin typeface="Courier New"/>
                </a:rPr>
                <a:t>I</a:t>
              </a:r>
              <a:r>
                <a:rPr b="0" lang="en-GB" sz="5400" spc="-1" strike="noStrike">
                  <a:solidFill>
                    <a:srgbClr val="333399"/>
                  </a:solidFill>
                  <a:latin typeface="Courier New"/>
                </a:rPr>
                <a:t>W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3399"/>
                  </a:solidFill>
                  <a:latin typeface="Courier New"/>
                </a:rPr>
                <a:t>D</a:t>
              </a:r>
              <a:r>
                <a:rPr b="0" lang="en-GB" sz="5400" spc="-1" strike="noStrike">
                  <a:solidFill>
                    <a:srgbClr val="333399"/>
                  </a:solidFill>
                  <a:latin typeface="Courier New"/>
                </a:rPr>
                <a:t>Y</a:t>
              </a:r>
              <a:r>
                <a:rPr b="0" lang="en-GB" sz="5400" spc="-1" strike="noStrike">
                  <a:solidFill>
                    <a:srgbClr val="ff9933"/>
                  </a:solidFill>
                  <a:latin typeface="Courier New"/>
                </a:rPr>
                <a:t>A</a:t>
              </a:r>
              <a:r>
                <a:rPr b="0" lang="en-GB" sz="5400" spc="-1" strike="noStrike">
                  <a:solidFill>
                    <a:srgbClr val="cc3300"/>
                  </a:solidFill>
                  <a:latin typeface="Courier New"/>
                </a:rPr>
                <a:t>H</a:t>
              </a:r>
              <a:r>
                <a:rPr b="0" lang="en-GB" sz="5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r>
                <a:rPr b="0" lang="en-GB" sz="5400" spc="-1" strike="noStrike">
                  <a:solidFill>
                    <a:srgbClr val="0099ff"/>
                  </a:solidFill>
                  <a:latin typeface="Courier New"/>
                </a:rPr>
                <a:t>L</a:t>
              </a:r>
              <a:r>
                <a:rPr b="0" lang="en-GB" sz="5400" spc="-1" strike="noStrike">
                  <a:solidFill>
                    <a:srgbClr val="333399"/>
                  </a:solidFill>
                  <a:latin typeface="Courier New"/>
                </a:rPr>
                <a:t>W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ff3399"/>
                  </a:solidFill>
                  <a:latin typeface="Courier New"/>
                </a:rPr>
                <a:t>E</a:t>
              </a:r>
              <a:r>
                <a:rPr b="0" lang="en-GB" sz="5400" spc="-1" strike="noStrike">
                  <a:solidFill>
                    <a:srgbClr val="333399"/>
                  </a:solidFill>
                  <a:latin typeface="Courier New"/>
                </a:rPr>
                <a:t>F</a:t>
              </a:r>
              <a:r>
                <a:rPr b="0" lang="en-GB" sz="5400" spc="-1" strike="noStrike">
                  <a:solidFill>
                    <a:srgbClr val="ff9933"/>
                  </a:solidFill>
                  <a:latin typeface="Courier New"/>
                </a:rPr>
                <a:t>G</a:t>
              </a:r>
              <a:r>
                <a:rPr b="0" lang="en-GB" sz="5400" spc="-1" strike="noStrike">
                  <a:solidFill>
                    <a:srgbClr val="cc3300"/>
                  </a:solidFill>
                  <a:latin typeface="Courier New"/>
                </a:rPr>
                <a:t>H</a:t>
              </a:r>
              <a:r>
                <a:rPr b="0" lang="en-GB" sz="54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r>
                <a:rPr b="0" lang="en-GB" sz="5400" spc="-1" strike="noStrike">
                  <a:solidFill>
                    <a:srgbClr val="0099ff"/>
                  </a:solidFill>
                  <a:latin typeface="Courier New"/>
                </a:rPr>
                <a:t>L</a:t>
              </a:r>
              <a:r>
                <a:rPr b="0" lang="en-GB" sz="5400" spc="-1" strike="noStrike">
                  <a:solidFill>
                    <a:srgbClr val="333399"/>
                  </a:solidFill>
                  <a:latin typeface="Courier New"/>
                </a:rPr>
                <a:t>W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267080" y="1066680"/>
            <a:ext cx="6858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685800"/>
            <a:ext cx="6094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99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99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685800"/>
            <a:ext cx="6094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685800"/>
            <a:ext cx="76212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33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9933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685800"/>
            <a:ext cx="6094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33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7040" y="685800"/>
            <a:ext cx="6094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685800"/>
            <a:ext cx="60984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ff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ff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ff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685800"/>
            <a:ext cx="76176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38680" y="304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286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Tahoma"/>
              </a:rPr>
              <a:t>Patterns and Pro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 Paul DF Ju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5726160" y="3716280"/>
            <a:ext cx="861480" cy="647640"/>
            <a:chOff x="5726160" y="3716280"/>
            <a:chExt cx="861480" cy="647640"/>
          </a:xfrm>
        </p:grpSpPr>
        <p:grpSp>
          <p:nvGrpSpPr>
            <p:cNvPr id="71" name=""/>
            <p:cNvGrpSpPr/>
            <p:nvPr/>
          </p:nvGrpSpPr>
          <p:grpSpPr>
            <a:xfrm>
              <a:off x="5726160" y="3860640"/>
              <a:ext cx="720360" cy="439920"/>
              <a:chOff x="5726160" y="3860640"/>
              <a:chExt cx="720360" cy="439920"/>
            </a:xfrm>
          </p:grpSpPr>
          <p:sp>
            <p:nvSpPr>
              <p:cNvPr id="72" name=""/>
              <p:cNvSpPr/>
              <p:nvPr/>
            </p:nvSpPr>
            <p:spPr>
              <a:xfrm>
                <a:off x="5726160" y="3868560"/>
                <a:ext cx="720360" cy="432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019560" y="3860640"/>
                <a:ext cx="82080" cy="792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0" y="0"/>
                    </a:moveTo>
                    <a:lnTo>
                      <a:pt x="52" y="5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6084720" y="3716280"/>
              <a:ext cx="50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140360" y="3716280"/>
            <a:ext cx="861480" cy="647640"/>
            <a:chOff x="4140360" y="3716280"/>
            <a:chExt cx="861480" cy="647640"/>
          </a:xfrm>
        </p:grpSpPr>
        <p:grpSp>
          <p:nvGrpSpPr>
            <p:cNvPr id="76" name=""/>
            <p:cNvGrpSpPr/>
            <p:nvPr/>
          </p:nvGrpSpPr>
          <p:grpSpPr>
            <a:xfrm>
              <a:off x="4140360" y="3860640"/>
              <a:ext cx="720360" cy="439920"/>
              <a:chOff x="4140360" y="3860640"/>
              <a:chExt cx="720360" cy="439920"/>
            </a:xfrm>
          </p:grpSpPr>
          <p:sp>
            <p:nvSpPr>
              <p:cNvPr id="77" name=""/>
              <p:cNvSpPr/>
              <p:nvPr/>
            </p:nvSpPr>
            <p:spPr>
              <a:xfrm>
                <a:off x="4140360" y="3868560"/>
                <a:ext cx="720360" cy="432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433760" y="3860640"/>
                <a:ext cx="82080" cy="792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0" y="0"/>
                    </a:moveTo>
                    <a:lnTo>
                      <a:pt x="52" y="5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8920" y="3716280"/>
              <a:ext cx="50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557440" y="3718080"/>
            <a:ext cx="862200" cy="647640"/>
            <a:chOff x="2557440" y="3718080"/>
            <a:chExt cx="862200" cy="647640"/>
          </a:xfrm>
        </p:grpSpPr>
        <p:grpSp>
          <p:nvGrpSpPr>
            <p:cNvPr id="81" name=""/>
            <p:cNvGrpSpPr/>
            <p:nvPr/>
          </p:nvGrpSpPr>
          <p:grpSpPr>
            <a:xfrm>
              <a:off x="2557440" y="3862440"/>
              <a:ext cx="720720" cy="439920"/>
              <a:chOff x="2557440" y="3862440"/>
              <a:chExt cx="720720" cy="439920"/>
            </a:xfrm>
          </p:grpSpPr>
          <p:sp>
            <p:nvSpPr>
              <p:cNvPr id="82" name=""/>
              <p:cNvSpPr/>
              <p:nvPr/>
            </p:nvSpPr>
            <p:spPr>
              <a:xfrm>
                <a:off x="2557440" y="3870360"/>
                <a:ext cx="720720" cy="432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851200" y="3862440"/>
                <a:ext cx="82440" cy="792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0" y="0"/>
                    </a:moveTo>
                    <a:lnTo>
                      <a:pt x="52" y="5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916360" y="3718080"/>
              <a:ext cx="5032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973080" y="3716280"/>
            <a:ext cx="862200" cy="647640"/>
            <a:chOff x="973080" y="3716280"/>
            <a:chExt cx="862200" cy="647640"/>
          </a:xfrm>
        </p:grpSpPr>
        <p:grpSp>
          <p:nvGrpSpPr>
            <p:cNvPr id="86" name=""/>
            <p:cNvGrpSpPr/>
            <p:nvPr/>
          </p:nvGrpSpPr>
          <p:grpSpPr>
            <a:xfrm>
              <a:off x="973080" y="3860640"/>
              <a:ext cx="720720" cy="439920"/>
              <a:chOff x="973080" y="3860640"/>
              <a:chExt cx="720720" cy="439920"/>
            </a:xfrm>
          </p:grpSpPr>
          <p:sp>
            <p:nvSpPr>
              <p:cNvPr id="87" name=""/>
              <p:cNvSpPr/>
              <p:nvPr/>
            </p:nvSpPr>
            <p:spPr>
              <a:xfrm>
                <a:off x="973080" y="3868560"/>
                <a:ext cx="720720" cy="432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66840" y="3860640"/>
                <a:ext cx="82440" cy="792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0" y="0"/>
                    </a:moveTo>
                    <a:lnTo>
                      <a:pt x="52" y="5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332000" y="3716280"/>
              <a:ext cx="5032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700360" y="5156280"/>
            <a:ext cx="792000" cy="72072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5157720"/>
            <a:ext cx="792360" cy="72072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84720" y="5156280"/>
            <a:ext cx="792000" cy="72072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3716280"/>
            <a:ext cx="792000" cy="720720"/>
          </a:xfrm>
          <a:prstGeom prst="diamond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84720" y="3716280"/>
            <a:ext cx="792000" cy="720720"/>
          </a:xfrm>
          <a:prstGeom prst="diamond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3716280"/>
            <a:ext cx="792000" cy="720720"/>
          </a:xfrm>
          <a:prstGeom prst="diamond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716280"/>
            <a:ext cx="792360" cy="720720"/>
          </a:xfrm>
          <a:prstGeom prst="diamond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2205000"/>
            <a:ext cx="792000" cy="72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84720" y="2205000"/>
            <a:ext cx="792000" cy="72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2205000"/>
            <a:ext cx="792360" cy="72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476360" y="2924280"/>
            <a:ext cx="1511280" cy="223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763640" y="2781000"/>
            <a:ext cx="1008000" cy="115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492360" y="2565000"/>
            <a:ext cx="792360" cy="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76720" y="2565000"/>
            <a:ext cx="792360" cy="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276720" y="2781000"/>
            <a:ext cx="1079280" cy="1081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859280" y="2852280"/>
            <a:ext cx="1152720" cy="1009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130560" y="2923920"/>
            <a:ext cx="1441440" cy="2235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16360" y="2923920"/>
            <a:ext cx="1441440" cy="2235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08040" y="4441680"/>
            <a:ext cx="1800" cy="693720"/>
          </a:xfrm>
          <a:custGeom>
            <a:avLst/>
            <a:gdLst/>
            <a:ahLst/>
            <a:rect l="l" t="t" r="r" b="b"/>
            <a:pathLst>
              <a:path w="1" h="437">
                <a:moveTo>
                  <a:pt x="0" y="437"/>
                </a:moveTo>
                <a:lnTo>
                  <a:pt x="1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92400" y="443700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1" y="44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76760" y="4437000"/>
            <a:ext cx="1440" cy="714600"/>
          </a:xfrm>
          <a:custGeom>
            <a:avLst/>
            <a:gdLst/>
            <a:ahLst/>
            <a:rect l="l" t="t" r="r" b="b"/>
            <a:pathLst>
              <a:path w="1" h="450">
                <a:moveTo>
                  <a:pt x="1" y="45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61120" y="4437000"/>
            <a:ext cx="3240" cy="714600"/>
          </a:xfrm>
          <a:custGeom>
            <a:avLst/>
            <a:gdLst/>
            <a:ahLst/>
            <a:rect l="l" t="t" r="r" b="b"/>
            <a:pathLst>
              <a:path w="2" h="450">
                <a:moveTo>
                  <a:pt x="2" y="45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94200" y="2930400"/>
            <a:ext cx="15840" cy="776520"/>
          </a:xfrm>
          <a:custGeom>
            <a:avLst/>
            <a:gdLst/>
            <a:ahLst/>
            <a:rect l="l" t="t" r="r" b="b"/>
            <a:pathLst>
              <a:path w="10" h="489">
                <a:moveTo>
                  <a:pt x="10" y="0"/>
                </a:moveTo>
                <a:lnTo>
                  <a:pt x="0" y="489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78200" y="2898720"/>
            <a:ext cx="16200" cy="816120"/>
          </a:xfrm>
          <a:custGeom>
            <a:avLst/>
            <a:gdLst/>
            <a:ahLst/>
            <a:rect l="l" t="t" r="r" b="b"/>
            <a:pathLst>
              <a:path w="10" h="514">
                <a:moveTo>
                  <a:pt x="10" y="0"/>
                </a:moveTo>
                <a:lnTo>
                  <a:pt x="0" y="514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62560" y="2898720"/>
            <a:ext cx="15840" cy="831960"/>
          </a:xfrm>
          <a:custGeom>
            <a:avLst/>
            <a:gdLst/>
            <a:ahLst/>
            <a:rect l="l" t="t" r="r" b="b"/>
            <a:pathLst>
              <a:path w="10" h="524">
                <a:moveTo>
                  <a:pt x="10" y="0"/>
                </a:moveTo>
                <a:lnTo>
                  <a:pt x="0" y="524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516640"/>
            <a:ext cx="792360" cy="0"/>
          </a:xfrm>
          <a:prstGeom prst="line">
            <a:avLst/>
          </a:prstGeom>
          <a:ln w="19080">
            <a:solidFill>
              <a:srgbClr val="33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360" y="5516640"/>
            <a:ext cx="792360" cy="0"/>
          </a:xfrm>
          <a:prstGeom prst="line">
            <a:avLst/>
          </a:prstGeom>
          <a:ln w="19080">
            <a:solidFill>
              <a:srgbClr val="33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5280" y="5516640"/>
            <a:ext cx="792000" cy="0"/>
          </a:xfrm>
          <a:prstGeom prst="line">
            <a:avLst/>
          </a:prstGeom>
          <a:ln w="19080">
            <a:solidFill>
              <a:srgbClr val="33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59640" y="5516640"/>
            <a:ext cx="792000" cy="0"/>
          </a:xfrm>
          <a:prstGeom prst="line">
            <a:avLst/>
          </a:prstGeom>
          <a:ln w="19080">
            <a:solidFill>
              <a:srgbClr val="33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43640" y="4292640"/>
            <a:ext cx="1008000" cy="1008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4292640"/>
            <a:ext cx="1008000" cy="1008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292640"/>
            <a:ext cx="1008000" cy="1008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4292640"/>
            <a:ext cx="1008000" cy="1008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2852640"/>
            <a:ext cx="1224000" cy="2305080"/>
          </a:xfrm>
          <a:prstGeom prst="line">
            <a:avLst/>
          </a:prstGeom>
          <a:ln w="19080">
            <a:solidFill>
              <a:srgbClr val="33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2360" y="2852640"/>
            <a:ext cx="1224000" cy="2305080"/>
          </a:xfrm>
          <a:prstGeom prst="line">
            <a:avLst/>
          </a:prstGeom>
          <a:ln w="19080">
            <a:solidFill>
              <a:srgbClr val="33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5080" y="2852640"/>
            <a:ext cx="1222560" cy="2305080"/>
          </a:xfrm>
          <a:prstGeom prst="line">
            <a:avLst/>
          </a:prstGeom>
          <a:ln w="19080">
            <a:solidFill>
              <a:srgbClr val="33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116000" y="5156280"/>
            <a:ext cx="792000" cy="720720"/>
            <a:chOff x="1116000" y="5156280"/>
            <a:chExt cx="792000" cy="720720"/>
          </a:xfrm>
        </p:grpSpPr>
        <p:sp>
          <p:nvSpPr>
            <p:cNvPr id="127" name=""/>
            <p:cNvSpPr/>
            <p:nvPr/>
          </p:nvSpPr>
          <p:spPr>
            <a:xfrm>
              <a:off x="1116000" y="5156280"/>
              <a:ext cx="792000" cy="720720"/>
            </a:xfrm>
            <a:prstGeom prst="rect">
              <a:avLst/>
            </a:prstGeom>
            <a:solidFill>
              <a:srgbClr val="ccffcc">
                <a:alpha val="25000"/>
              </a:srgbClr>
            </a:solidFill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87280" y="5373720"/>
              <a:ext cx="648000" cy="307080"/>
            </a:xfrm>
            <a:prstGeom prst="rect">
              <a:avLst/>
            </a:prstGeom>
            <a:solidFill>
              <a:srgbClr val="ccff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eg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453440" y="5156280"/>
            <a:ext cx="792000" cy="720720"/>
            <a:chOff x="7453440" y="5156280"/>
            <a:chExt cx="792000" cy="720720"/>
          </a:xfrm>
        </p:grpSpPr>
        <p:sp>
          <p:nvSpPr>
            <p:cNvPr id="130" name=""/>
            <p:cNvSpPr/>
            <p:nvPr/>
          </p:nvSpPr>
          <p:spPr>
            <a:xfrm>
              <a:off x="7453440" y="5156280"/>
              <a:ext cx="792000" cy="720720"/>
            </a:xfrm>
            <a:prstGeom prst="rect">
              <a:avLst/>
            </a:prstGeom>
            <a:solidFill>
              <a:srgbClr val="ccffcc">
                <a:alpha val="25000"/>
              </a:srgbClr>
            </a:solidFill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24720" y="5356080"/>
              <a:ext cx="647640" cy="307080"/>
            </a:xfrm>
            <a:prstGeom prst="rect">
              <a:avLst/>
            </a:prstGeom>
            <a:solidFill>
              <a:srgbClr val="ccff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39640" y="17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cc66"/>
                </a:solidFill>
                <a:latin typeface="Arial"/>
              </a:rPr>
              <a:t>Move to nex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2560" y="17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Inse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2720" y="17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5013360"/>
            <a:ext cx="1224000" cy="1008000"/>
          </a:xfrm>
          <a:prstGeom prst="rect">
            <a:avLst/>
          </a:prstGeom>
          <a:solidFill>
            <a:srgbClr val="ccffff">
              <a:alpha val="2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1700280"/>
            <a:ext cx="230328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341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71640" y="5300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30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530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38545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71640" y="3860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036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56000" y="234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234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2349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6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7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-3.05556E-006 -0.20996 E">
                                      <p:cBhvr>
                                        <p:cTn id="221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0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6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7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9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0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0.20996 L 0.16927 -0.43033 E">
                                      <p:cBhvr>
                                        <p:cTn id="264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3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4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1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2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1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2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27 -0.43033 L 0.16927 1.85185E-006 E">
                                      <p:cBhvr>
                                        <p:cTn id="33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7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8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0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1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3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4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27 1.85185E-006 L 0.16927 -0.20996 E">
                                      <p:cBhvr>
                                        <p:cTn id="373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80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1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1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2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4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5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43280" y="4086360"/>
            <a:ext cx="936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-1137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2565360"/>
            <a:ext cx="1008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-1241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333360"/>
          <a:ext cx="8229600" cy="57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33360"/>
                    <a:ext cx="822960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84360" y="4076640"/>
          <a:ext cx="7918200" cy="32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076640"/>
                    <a:ext cx="79182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611280" y="4076640"/>
            <a:ext cx="7991280" cy="36036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268280"/>
            <a:ext cx="9144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           C            D            E            F            G            H            I              K               L            M            N              P            Q            R            S              T            V            W            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-&gt;m       m-&gt;I       m-&gt;d       i-&gt;m        i-&gt;I         d-&gt;m      d-&gt;d       b-&gt;m       m-&gt;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942160" y="3932280"/>
            <a:ext cx="861480" cy="647640"/>
            <a:chOff x="5942160" y="3932280"/>
            <a:chExt cx="861480" cy="647640"/>
          </a:xfrm>
        </p:grpSpPr>
        <p:grpSp>
          <p:nvGrpSpPr>
            <p:cNvPr id="157" name=""/>
            <p:cNvGrpSpPr/>
            <p:nvPr/>
          </p:nvGrpSpPr>
          <p:grpSpPr>
            <a:xfrm>
              <a:off x="5942160" y="4076640"/>
              <a:ext cx="720360" cy="439920"/>
              <a:chOff x="5942160" y="4076640"/>
              <a:chExt cx="720360" cy="439920"/>
            </a:xfrm>
          </p:grpSpPr>
          <p:sp>
            <p:nvSpPr>
              <p:cNvPr id="158" name=""/>
              <p:cNvSpPr/>
              <p:nvPr/>
            </p:nvSpPr>
            <p:spPr>
              <a:xfrm>
                <a:off x="5942160" y="4084560"/>
                <a:ext cx="720360" cy="432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235560" y="4076640"/>
                <a:ext cx="82080" cy="792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0" y="0"/>
                    </a:moveTo>
                    <a:lnTo>
                      <a:pt x="52" y="5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6300720" y="3932280"/>
              <a:ext cx="50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356000" y="3932280"/>
            <a:ext cx="862200" cy="647640"/>
            <a:chOff x="4356000" y="3932280"/>
            <a:chExt cx="862200" cy="647640"/>
          </a:xfrm>
        </p:grpSpPr>
        <p:grpSp>
          <p:nvGrpSpPr>
            <p:cNvPr id="162" name=""/>
            <p:cNvGrpSpPr/>
            <p:nvPr/>
          </p:nvGrpSpPr>
          <p:grpSpPr>
            <a:xfrm>
              <a:off x="4356000" y="4076640"/>
              <a:ext cx="720720" cy="439920"/>
              <a:chOff x="4356000" y="4076640"/>
              <a:chExt cx="720720" cy="439920"/>
            </a:xfrm>
          </p:grpSpPr>
          <p:sp>
            <p:nvSpPr>
              <p:cNvPr id="163" name=""/>
              <p:cNvSpPr/>
              <p:nvPr/>
            </p:nvSpPr>
            <p:spPr>
              <a:xfrm>
                <a:off x="4356000" y="4084560"/>
                <a:ext cx="720720" cy="432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649760" y="4076640"/>
                <a:ext cx="82440" cy="792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0" y="0"/>
                    </a:moveTo>
                    <a:lnTo>
                      <a:pt x="52" y="5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4714920" y="3932280"/>
              <a:ext cx="5032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73440" y="3933720"/>
            <a:ext cx="861480" cy="647640"/>
            <a:chOff x="2773440" y="3933720"/>
            <a:chExt cx="861480" cy="647640"/>
          </a:xfrm>
        </p:grpSpPr>
        <p:grpSp>
          <p:nvGrpSpPr>
            <p:cNvPr id="167" name=""/>
            <p:cNvGrpSpPr/>
            <p:nvPr/>
          </p:nvGrpSpPr>
          <p:grpSpPr>
            <a:xfrm>
              <a:off x="2773440" y="4078080"/>
              <a:ext cx="720360" cy="439920"/>
              <a:chOff x="2773440" y="4078080"/>
              <a:chExt cx="720360" cy="439920"/>
            </a:xfrm>
          </p:grpSpPr>
          <p:sp>
            <p:nvSpPr>
              <p:cNvPr id="168" name=""/>
              <p:cNvSpPr/>
              <p:nvPr/>
            </p:nvSpPr>
            <p:spPr>
              <a:xfrm>
                <a:off x="2773440" y="4086000"/>
                <a:ext cx="720360" cy="4320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066840" y="4078080"/>
                <a:ext cx="82080" cy="792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0" y="0"/>
                    </a:moveTo>
                    <a:lnTo>
                      <a:pt x="52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3132000" y="3933720"/>
              <a:ext cx="502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89080" y="3932280"/>
            <a:ext cx="861480" cy="647640"/>
            <a:chOff x="1189080" y="3932280"/>
            <a:chExt cx="861480" cy="647640"/>
          </a:xfrm>
        </p:grpSpPr>
        <p:grpSp>
          <p:nvGrpSpPr>
            <p:cNvPr id="172" name=""/>
            <p:cNvGrpSpPr/>
            <p:nvPr/>
          </p:nvGrpSpPr>
          <p:grpSpPr>
            <a:xfrm>
              <a:off x="1189080" y="4076640"/>
              <a:ext cx="720360" cy="439920"/>
              <a:chOff x="1189080" y="4076640"/>
              <a:chExt cx="720360" cy="439920"/>
            </a:xfrm>
          </p:grpSpPr>
          <p:sp>
            <p:nvSpPr>
              <p:cNvPr id="173" name=""/>
              <p:cNvSpPr/>
              <p:nvPr/>
            </p:nvSpPr>
            <p:spPr>
              <a:xfrm>
                <a:off x="1189080" y="4084560"/>
                <a:ext cx="720360" cy="432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482480" y="4076640"/>
                <a:ext cx="82080" cy="792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0" y="0"/>
                    </a:moveTo>
                    <a:lnTo>
                      <a:pt x="52" y="5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1547640" y="3932280"/>
              <a:ext cx="50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916360" y="5372280"/>
            <a:ext cx="792000" cy="72072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83280" y="5373720"/>
            <a:ext cx="792360" cy="72072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3932280"/>
            <a:ext cx="792000" cy="720720"/>
          </a:xfrm>
          <a:prstGeom prst="diamond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3932280"/>
            <a:ext cx="792000" cy="720720"/>
          </a:xfrm>
          <a:prstGeom prst="diamond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83280" y="3932280"/>
            <a:ext cx="792360" cy="720720"/>
          </a:xfrm>
          <a:prstGeom prst="diamond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6360" y="2421000"/>
            <a:ext cx="792000" cy="72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83280" y="2421000"/>
            <a:ext cx="792360" cy="72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692360" y="3139560"/>
            <a:ext cx="1511280" cy="2233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979640" y="2997000"/>
            <a:ext cx="1008000" cy="115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708360" y="2781360"/>
            <a:ext cx="7923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292720" y="2781360"/>
            <a:ext cx="79200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492360" y="2997000"/>
            <a:ext cx="1079640" cy="1081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075280" y="3068280"/>
            <a:ext cx="1152360" cy="1009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346560" y="3139560"/>
            <a:ext cx="1441440" cy="2235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932360" y="3139560"/>
            <a:ext cx="1441440" cy="2235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25480" y="4657680"/>
            <a:ext cx="11160" cy="676440"/>
          </a:xfrm>
          <a:custGeom>
            <a:avLst/>
            <a:gdLst/>
            <a:ahLst/>
            <a:rect l="l" t="t" r="r" b="b"/>
            <a:pathLst>
              <a:path w="7" h="426">
                <a:moveTo>
                  <a:pt x="7" y="426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08400" y="4653000"/>
            <a:ext cx="14400" cy="711000"/>
          </a:xfrm>
          <a:custGeom>
            <a:avLst/>
            <a:gdLst/>
            <a:ahLst/>
            <a:rect l="l" t="t" r="r" b="b"/>
            <a:pathLst>
              <a:path w="9" h="448">
                <a:moveTo>
                  <a:pt x="9" y="448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2760" y="465300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4653000"/>
            <a:ext cx="15840" cy="681120"/>
          </a:xfrm>
          <a:custGeom>
            <a:avLst/>
            <a:gdLst/>
            <a:ahLst/>
            <a:rect l="l" t="t" r="r" b="b"/>
            <a:pathLst>
              <a:path w="10" h="429">
                <a:moveTo>
                  <a:pt x="10" y="429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09840" y="3146400"/>
            <a:ext cx="15840" cy="776160"/>
          </a:xfrm>
          <a:custGeom>
            <a:avLst/>
            <a:gdLst/>
            <a:ahLst/>
            <a:rect l="l" t="t" r="r" b="b"/>
            <a:pathLst>
              <a:path w="10" h="489">
                <a:moveTo>
                  <a:pt x="10" y="0"/>
                </a:moveTo>
                <a:lnTo>
                  <a:pt x="0" y="489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94200" y="3114720"/>
            <a:ext cx="15840" cy="815760"/>
          </a:xfrm>
          <a:custGeom>
            <a:avLst/>
            <a:gdLst/>
            <a:ahLst/>
            <a:rect l="l" t="t" r="r" b="b"/>
            <a:pathLst>
              <a:path w="10" h="514">
                <a:moveTo>
                  <a:pt x="10" y="0"/>
                </a:moveTo>
                <a:lnTo>
                  <a:pt x="0" y="514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8560" y="3114720"/>
            <a:ext cx="15840" cy="831960"/>
          </a:xfrm>
          <a:custGeom>
            <a:avLst/>
            <a:gdLst/>
            <a:ahLst/>
            <a:rect l="l" t="t" r="r" b="b"/>
            <a:pathLst>
              <a:path w="10" h="524">
                <a:moveTo>
                  <a:pt x="10" y="0"/>
                </a:moveTo>
                <a:lnTo>
                  <a:pt x="0" y="524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4000" y="5732640"/>
            <a:ext cx="792360" cy="0"/>
          </a:xfrm>
          <a:prstGeom prst="line">
            <a:avLst/>
          </a:prstGeom>
          <a:ln w="19080">
            <a:solidFill>
              <a:srgbClr val="33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08360" y="5732640"/>
            <a:ext cx="792360" cy="0"/>
          </a:xfrm>
          <a:prstGeom prst="line">
            <a:avLst/>
          </a:prstGeom>
          <a:ln w="19080">
            <a:solidFill>
              <a:srgbClr val="33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91280" y="5732640"/>
            <a:ext cx="792000" cy="0"/>
          </a:xfrm>
          <a:prstGeom prst="line">
            <a:avLst/>
          </a:prstGeom>
          <a:ln w="19080">
            <a:solidFill>
              <a:srgbClr val="33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732640"/>
            <a:ext cx="792000" cy="0"/>
          </a:xfrm>
          <a:prstGeom prst="line">
            <a:avLst/>
          </a:prstGeom>
          <a:ln w="19080">
            <a:solidFill>
              <a:srgbClr val="33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4508640"/>
            <a:ext cx="1008000" cy="1008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75280" y="4508640"/>
            <a:ext cx="1008000" cy="1008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4508640"/>
            <a:ext cx="1008360" cy="1008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4508640"/>
            <a:ext cx="1008360" cy="1008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4000" y="3068640"/>
            <a:ext cx="1224000" cy="2305080"/>
          </a:xfrm>
          <a:prstGeom prst="line">
            <a:avLst/>
          </a:prstGeom>
          <a:ln w="19080">
            <a:solidFill>
              <a:srgbClr val="33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3068640"/>
            <a:ext cx="1224000" cy="2305080"/>
          </a:xfrm>
          <a:prstGeom prst="line">
            <a:avLst/>
          </a:prstGeom>
          <a:ln w="19080">
            <a:solidFill>
              <a:srgbClr val="33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61080" y="3068640"/>
            <a:ext cx="1222560" cy="2305080"/>
          </a:xfrm>
          <a:prstGeom prst="line">
            <a:avLst/>
          </a:prstGeom>
          <a:ln w="19080">
            <a:solidFill>
              <a:srgbClr val="33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32000" y="5372280"/>
            <a:ext cx="792000" cy="720720"/>
            <a:chOff x="1332000" y="5372280"/>
            <a:chExt cx="792000" cy="720720"/>
          </a:xfrm>
        </p:grpSpPr>
        <p:sp>
          <p:nvSpPr>
            <p:cNvPr id="210" name=""/>
            <p:cNvSpPr/>
            <p:nvPr/>
          </p:nvSpPr>
          <p:spPr>
            <a:xfrm>
              <a:off x="1332000" y="5372280"/>
              <a:ext cx="792000" cy="720720"/>
            </a:xfrm>
            <a:prstGeom prst="rect">
              <a:avLst/>
            </a:prstGeom>
            <a:noFill/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03280" y="5589720"/>
              <a:ext cx="64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7669080" y="5372280"/>
            <a:ext cx="792000" cy="720720"/>
            <a:chOff x="7669080" y="5372280"/>
            <a:chExt cx="792000" cy="720720"/>
          </a:xfrm>
        </p:grpSpPr>
        <p:sp>
          <p:nvSpPr>
            <p:cNvPr id="213" name=""/>
            <p:cNvSpPr/>
            <p:nvPr/>
          </p:nvSpPr>
          <p:spPr>
            <a:xfrm>
              <a:off x="7669080" y="5372280"/>
              <a:ext cx="792000" cy="720720"/>
            </a:xfrm>
            <a:prstGeom prst="rect">
              <a:avLst/>
            </a:prstGeom>
            <a:noFill/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40360" y="5572080"/>
              <a:ext cx="64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n+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700360" y="5229360"/>
            <a:ext cx="1224000" cy="1008000"/>
          </a:xfrm>
          <a:prstGeom prst="rect">
            <a:avLst/>
          </a:prstGeom>
          <a:solidFill>
            <a:srgbClr val="ccffff">
              <a:alpha val="2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7640" y="551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56360" y="551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51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03280" y="40705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87640" y="40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40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56360" y="40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256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56360" y="256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87640" y="256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1197000"/>
            <a:ext cx="1295280" cy="1008000"/>
          </a:xfrm>
          <a:prstGeom prst="rect">
            <a:avLst/>
          </a:prstGeom>
          <a:solidFill>
            <a:srgbClr val="00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1989000"/>
            <a:ext cx="129528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551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6360" y="3932280"/>
            <a:ext cx="792000" cy="720720"/>
          </a:xfrm>
          <a:prstGeom prst="diamond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00720" y="5372280"/>
            <a:ext cx="792000" cy="72072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2421000"/>
            <a:ext cx="792000" cy="72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00720" y="5373720"/>
            <a:ext cx="792000" cy="719280"/>
          </a:xfrm>
          <a:prstGeom prst="rect">
            <a:avLst/>
          </a:prstGeom>
          <a:solidFill>
            <a:srgbClr val="ffff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1700280"/>
            <a:ext cx="849600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00720" y="2349360"/>
            <a:ext cx="792000" cy="37450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00720" y="2349360"/>
            <a:ext cx="7920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57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518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8408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8094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5636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8298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8355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128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8084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50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4320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7954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7959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7954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8234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770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57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40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750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708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00720" y="3645000"/>
            <a:ext cx="792000" cy="144360"/>
          </a:xfrm>
          <a:prstGeom prst="rect">
            <a:avLst/>
          </a:prstGeom>
          <a:solidFill>
            <a:srgbClr val="ff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00720" y="4005360"/>
            <a:ext cx="792000" cy="144360"/>
          </a:xfrm>
          <a:prstGeom prst="rect">
            <a:avLst/>
          </a:prstGeom>
          <a:solidFill>
            <a:srgbClr val="ff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00720" y="5516640"/>
            <a:ext cx="792000" cy="144360"/>
          </a:xfrm>
          <a:prstGeom prst="rect">
            <a:avLst/>
          </a:prstGeom>
          <a:solidFill>
            <a:srgbClr val="ff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1268280"/>
            <a:ext cx="504720" cy="648000"/>
          </a:xfrm>
          <a:prstGeom prst="rect">
            <a:avLst/>
          </a:prstGeom>
          <a:solidFill>
            <a:srgbClr val="ff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40360" y="1268280"/>
            <a:ext cx="504720" cy="648000"/>
          </a:xfrm>
          <a:prstGeom prst="rect">
            <a:avLst/>
          </a:prstGeom>
          <a:solidFill>
            <a:srgbClr val="ff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24720" y="1268280"/>
            <a:ext cx="504720" cy="648000"/>
          </a:xfrm>
          <a:prstGeom prst="rect">
            <a:avLst/>
          </a:prstGeom>
          <a:solidFill>
            <a:srgbClr val="ff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1484280"/>
            <a:ext cx="431640" cy="72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13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4" dur="25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5" dur="25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6" dur="25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500"/>
                            </p:stCondLst>
                            <p:childTnLst>
                              <p:par>
                                <p:cTn id="7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3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4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7" dur="25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0.03941 -0.00023 E">
                                      <p:cBhvr>
                                        <p:cTn id="79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5" dur="250" autoRev="1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9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0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1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-0.00023 L 0.08663 -1.48148E-006 E">
                                      <p:cBhvr>
                                        <p:cTn id="805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9" dur="250" autoRev="1" fill="hold"/>
                                        <p:tgtEl>
                                          <p:spTgt spid="1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3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4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5" dur="250" autoRev="1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9T18:03:14Z</dcterms:created>
  <dc:creator>JD</dc:creator>
  <dc:description/>
  <dc:language>en-US</dc:language>
  <cp:lastModifiedBy>David Philip Judge</cp:lastModifiedBy>
  <dcterms:modified xsi:type="dcterms:W3CDTF">2003-08-13T01:46:44Z</dcterms:modified>
  <cp:revision>15</cp:revision>
  <dc:subject/>
  <dc:title>Slide 1</dc:title>
</cp:coreProperties>
</file>